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6F81B-B003-4182-8F1A-DC4322F5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25E0C-918A-440E-A937-A361EA34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3753C-9871-4B61-8442-0396179C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9E2DA-406F-427C-9D1B-9B85D2D6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360A-7B58-4AD1-9B71-3208FE229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B8047-B206-4D19-B8C4-086EA931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840E-0ED5-411E-B296-798723C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E4B-8BDB-40B3-81F4-26FE4663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1271-991F-4753-A931-6A7115FB0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78CD-A27B-482B-940B-E909EE85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FE1B-7353-41A6-BA28-037796D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9792F-058C-42A9-8B60-4289FEF6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5155-F500-4885-9728-8CD0CE6A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4727-8D02-40DC-9BFA-A80F3C80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268C-E13E-4FD4-82AE-D3449C1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D049-1730-4E52-8EC1-BCF402CE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DCE2-96F7-485B-BAAD-5D64DCBF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5A1EC-9146-480E-9808-51AE7A21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9700-906F-40D6-80B6-BA0F5E08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87F2-A916-4A88-8A59-BC0B03B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A882-FAF9-4625-A0F2-74BF59F4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AFBE-875F-4D3A-AF7C-0C4B07C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A0150-9E7C-4471-AD43-0E04EC04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0623D-236C-4457-9A0E-29F24517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B392-E594-4C29-8EDF-217FD13667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1755-6AD3-4599-9CB2-CF572906B4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5 Biogeochemical Cy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9907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ke Washingto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Cycle: Ch 19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lobal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carbo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eous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Most important organic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sea-carbon-cycle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Line 7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nitroge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st of the atm (about 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3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gen cycle key steps!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n atmosphere as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in the so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itrogen fixation: fixes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 form plants can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tr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stem-tubers-rhizomes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liv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Plants absorb nitrates and ammonia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367080"/>
            <a:ext cx="44960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soil aga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the atm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r_chapter5_figure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6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7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mbiosis - Crop 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cropro01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alder8s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 has no atm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affect its’ use by l.t.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sphorus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gaseous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rocks and organic material in s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s to microbial action, changed to phosphates  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H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which plants can access. (slow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phosphorous-cycle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iogeochemica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 to cycle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element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aseous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logic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continent spreading and converging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40_43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layer 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hosp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 fault 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ent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orm fault  = sli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sanandreas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 = coll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Himalayas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gent = spr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m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infosys</cp:lastModifiedBy>
  <dcterms:modified xsi:type="dcterms:W3CDTF">2013-09-25T16:10:19Z</dcterms:modified>
  <cp:revision>44</cp:revision>
  <dc:subject/>
  <dc:title>Chapter 4 Biogeochemical Cycles</dc:title>
</cp:coreProperties>
</file>